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476F-B93C-408B-910D-98FBC0B4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2EB5-1DBC-4F08-BB64-39E34290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DEC5-875A-4FCB-9A42-5A7F3836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BFF8-7CD4-4F04-987C-CD83304C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1BF-5D85-4236-9DB8-F0A22B88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88BC-6389-441B-A4E5-E373192F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CAED-DE9C-4261-AAD2-401947EF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08D5-D24E-4285-B93B-22362DE7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D754-6D96-4397-B0E6-8B381AB3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7AF8-692E-45BB-907E-2F7D5C07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10A5-CE56-4B1D-96B0-024E56FA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1E3E-D705-446A-B70F-CE9791A6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57B9-386E-4973-A34B-801D13876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057400" y="45716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ane dut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arianna je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laine sm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533520" y="685800"/>
            <a:ext cx="4190760" cy="2890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Century Gothic"/>
              </a:rPr>
              <a:t>step-by-step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way-finding desig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380880" y="228600"/>
            <a:ext cx="1981440" cy="1365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entury Gothic"/>
              </a:rPr>
              <a:t>Problems - Out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99cc00"/>
                </a:solidFill>
                <a:latin typeface="Century Gothic"/>
              </a:rPr>
              <a:t>Three modes of transport</a:t>
            </a:r>
            <a:r>
              <a:rPr b="0" i="1" lang="en-US" sz="2200" spc="-1" strike="noStrike">
                <a:solidFill>
                  <a:srgbClr val="000000"/>
                </a:solidFill>
                <a:latin typeface="Century Gothic"/>
              </a:rPr>
              <a:t> -- MARTA, on foot, &amp; c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Century Gothic"/>
              </a:rPr>
              <a:t>In Gener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 m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 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 appropriate direction gi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Century Gothic"/>
              </a:rPr>
              <a:t>If they DID exis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t multi-ling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t graph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t consistent or properly associ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t in logical lo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t catered to user group (ie, cars are directed to front of hospital, not park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380880" y="228600"/>
            <a:ext cx="1981440" cy="1365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66680" y="1371240"/>
            <a:ext cx="3657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ystem of signs and ma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(placement + orient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All modes of transpor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o and from the hos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entury Gothic"/>
              </a:rPr>
              <a:t>Solutions - Out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05720" y="5257800"/>
            <a:ext cx="160020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5715000"/>
            <a:ext cx="190512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29400" y="5867280"/>
            <a:ext cx="190512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53080" y="4724280"/>
            <a:ext cx="190512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5105520"/>
            <a:ext cx="184320" cy="65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29600" y="5105520"/>
            <a:ext cx="184320" cy="65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289480" y="2895480"/>
            <a:ext cx="2975040" cy="373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638680" y="1600200"/>
            <a:ext cx="27432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</a:rPr>
              <a:t>External Signage</a:t>
            </a:r>
            <a:r>
              <a:rPr b="0" lang="en-US" sz="1600" spc="-1" strike="noStrike">
                <a:solidFill>
                  <a:srgbClr val="009999"/>
                </a:solidFill>
                <a:latin typeface="Century Gothic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onsist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Graph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Multi-ling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371600" y="2971800"/>
            <a:ext cx="2386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380880" y="228600"/>
            <a:ext cx="1981440" cy="13651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entury Gothic"/>
              </a:rPr>
              <a:t>Problems - In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</a:rPr>
              <a:t>Current Hospi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ke use of landmarks: colored umbre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mall size makes it easier to maneu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MAJOR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</a:rPr>
              <a:t>New Hospi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arger 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nnection between old and new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ack of knowledge for return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380880" y="228600"/>
            <a:ext cx="1981440" cy="13651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entury Gothic"/>
              </a:rPr>
              <a:t>Solutions - In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4724280"/>
            <a:ext cx="190512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848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entury Gothic"/>
              </a:rPr>
              <a:t>Physical Interactiv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nnovative, fun, and interactive for all types of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2 main layers: colors + floor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10 corresponding buttons that, when pressed, light up pathways to each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362320" y="3124080"/>
            <a:ext cx="441936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380880" y="228600"/>
            <a:ext cx="1981440" cy="13651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entury Gothic"/>
              </a:rPr>
              <a:t>Solutions - In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4724280"/>
            <a:ext cx="190512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entury Gothic"/>
              </a:rPr>
              <a:t>Printable Walking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rovide visitors with a takeaway reference (to and from dest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n be printed from interactiv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ffered in both English and Spa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5800" y="3352680"/>
            <a:ext cx="3581280" cy="2833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724280" y="3483000"/>
            <a:ext cx="34290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15:00:15Z</dcterms:created>
  <dc:creator>Marianna Jewell</dc:creator>
  <dc:description/>
  <dc:language>en-US</dc:language>
  <cp:lastModifiedBy>Joel Linderman</cp:lastModifiedBy>
  <dcterms:modified xsi:type="dcterms:W3CDTF">2007-12-13T16:58:13Z</dcterms:modified>
  <cp:revision>12</cp:revision>
  <dc:subject/>
  <dc:title>Step-by-Step a way-finding design team</dc:title>
</cp:coreProperties>
</file>